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4E3-88EC-4FF7-8A76-4937163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AC1-5E63-4AED-B806-542FD12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F94-45CB-41F9-B647-48286E0A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180-6BA3-4E58-9E0A-DCBBE2AC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546-B1CC-47D2-A390-911F64E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852-DC3D-4FF4-AE01-63846222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B5F-B843-4C39-9F86-5BD752A1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1C6-0F91-47E8-8371-EBC58A9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9E8-0480-4CD2-B31A-94F569E3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C58-FF7D-4238-9179-B3473FB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08C-1979-4C68-B1AE-CFC6AE4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9F8-5E10-4EE4-86CC-D173ABC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D6A2-9096-42D4-95D2-E4D6D872B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А\23 февраля\23 пластилинография\scale_1200.jpg"/>
          <p:cNvPicPr/>
          <p:nvPr/>
        </p:nvPicPr>
        <p:blipFill>
          <a:blip r:embed="rId1"/>
          <a:stretch/>
        </p:blipFill>
        <p:spPr>
          <a:xfrm>
            <a:off x="900000" y="1413000"/>
            <a:ext cx="7446960" cy="5200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28720" y="476280"/>
            <a:ext cx="72230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ластилинография к 23 февр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Елена\Desktop\А\23 февраля\23 пластилинография\1PkYD64d8ts.jpg"/>
          <p:cNvPicPr/>
          <p:nvPr/>
        </p:nvPicPr>
        <p:blipFill>
          <a:blip r:embed="rId1"/>
          <a:stretch/>
        </p:blipFill>
        <p:spPr>
          <a:xfrm>
            <a:off x="395280" y="333360"/>
            <a:ext cx="5761080" cy="61786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Эмблема круг"/>
          <p:cNvPicPr/>
          <p:nvPr/>
        </p:nvPicPr>
        <p:blipFill>
          <a:blip r:embed="rId2"/>
          <a:stretch/>
        </p:blipFill>
        <p:spPr>
          <a:xfrm>
            <a:off x="7308720" y="458136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47600" y="558900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А\23 февраля\23 пластилинография\scale_1200 (1).jpg"/>
          <p:cNvPicPr/>
          <p:nvPr/>
        </p:nvPicPr>
        <p:blipFill>
          <a:blip r:embed="rId1"/>
          <a:stretch/>
        </p:blipFill>
        <p:spPr>
          <a:xfrm>
            <a:off x="339840" y="333360"/>
            <a:ext cx="8404200" cy="59040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А\23 февраля\23 пластилинография\detsad-2297606-1621707903.jpg"/>
          <p:cNvPicPr/>
          <p:nvPr/>
        </p:nvPicPr>
        <p:blipFill>
          <a:blip r:embed="rId1"/>
          <a:stretch/>
        </p:blipFill>
        <p:spPr>
          <a:xfrm>
            <a:off x="316080" y="333360"/>
            <a:ext cx="8381880" cy="6048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А\23 февраля\23 пластилинография\detsad-1787978-1645903105.jpg"/>
          <p:cNvPicPr/>
          <p:nvPr/>
        </p:nvPicPr>
        <p:blipFill>
          <a:blip r:embed="rId1"/>
          <a:stretch/>
        </p:blipFill>
        <p:spPr>
          <a:xfrm>
            <a:off x="755640" y="549360"/>
            <a:ext cx="7958160" cy="5400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А\23 февраля\23 пластилинография\detsad-282989-1613294361.jpg"/>
          <p:cNvPicPr/>
          <p:nvPr/>
        </p:nvPicPr>
        <p:blipFill>
          <a:blip r:embed="rId1"/>
          <a:stretch/>
        </p:blipFill>
        <p:spPr>
          <a:xfrm>
            <a:off x="468360" y="836640"/>
            <a:ext cx="8253360" cy="5616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А\23 февраля\23 пластилинография\detsad-132999-1519057379.jpg"/>
          <p:cNvPicPr/>
          <p:nvPr/>
        </p:nvPicPr>
        <p:blipFill>
          <a:blip r:embed="rId1"/>
          <a:stretch/>
        </p:blipFill>
        <p:spPr>
          <a:xfrm>
            <a:off x="539640" y="476280"/>
            <a:ext cx="8129520" cy="5832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Елена\Desktop\А\23 февраля\23 пластилинография\996c5d310f403964aec95d3090c1e5e5.jpeg"/>
          <p:cNvPicPr/>
          <p:nvPr/>
        </p:nvPicPr>
        <p:blipFill>
          <a:blip r:embed="rId1"/>
          <a:stretch/>
        </p:blipFill>
        <p:spPr>
          <a:xfrm>
            <a:off x="762120" y="619200"/>
            <a:ext cx="7619760" cy="56196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Елена\Desktop\А\23 февраля\23 пластилинография\9akVxPifcDA.jpg"/>
          <p:cNvPicPr/>
          <p:nvPr/>
        </p:nvPicPr>
        <p:blipFill>
          <a:blip r:embed="rId1"/>
          <a:stretch/>
        </p:blipFill>
        <p:spPr>
          <a:xfrm>
            <a:off x="1139760" y="333360"/>
            <a:ext cx="7040520" cy="61200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Елена\Desktop\А\23 февраля\23 пластилинография\5aca8c17a050774b97d4bde9e5c565cf.jpg"/>
          <p:cNvPicPr/>
          <p:nvPr/>
        </p:nvPicPr>
        <p:blipFill>
          <a:blip r:embed="rId1"/>
          <a:stretch/>
        </p:blipFill>
        <p:spPr>
          <a:xfrm>
            <a:off x="1357200" y="219240"/>
            <a:ext cx="6429600" cy="64195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9T14:19:06Z</dcterms:created>
  <dc:creator>Елена Берюхова</dc:creator>
  <dc:description/>
  <dc:language>en-US</dc:language>
  <cp:lastModifiedBy>Берюхов</cp:lastModifiedBy>
  <dcterms:modified xsi:type="dcterms:W3CDTF">2026-02-22T07:06:30Z</dcterms:modified>
  <cp:revision>6</cp:revision>
  <dc:subject/>
  <dc:title>Слайд 1</dc:title>
</cp:coreProperties>
</file>